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EA-A060-4DF9-AA86-59836FE6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767-2171-47B2-A8E6-B97D92C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B97-86AC-4800-B13A-B811BC84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7F3-90D1-42CF-89AF-6D63EC34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090-B7E2-4A13-BB1A-3E06BD26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FA6-33E2-45BE-B1F6-4FF4082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B80-6B5B-4F5E-A806-224CB29C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348-42BA-43CB-A410-986C348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C7F-11B5-466F-9750-819A2DD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CA4-E72A-43D6-AD78-1608DF7E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99B-2D75-471D-A8B2-6DED9CB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FDC-8A8F-4BA2-8E19-A8D0D29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784-D5AA-4B62-8826-BAD665EE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Rockwell Extra Bold"/>
              </a:rPr>
              <a:t>Cowboy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44197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Unit 6*Week 4*Day 5 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2352010000[1]"/>
          <p:cNvPicPr/>
          <p:nvPr/>
        </p:nvPicPr>
        <p:blipFill>
          <a:blip r:embed="rId1"/>
          <a:stretch/>
        </p:blipFill>
        <p:spPr>
          <a:xfrm>
            <a:off x="304920" y="1981080"/>
            <a:ext cx="4419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6633"/>
                </a:solidFill>
                <a:latin typeface="Arial"/>
              </a:rPr>
              <a:t>Peach is their fastest selling                         breakfast tea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2352030000[1]"/>
          <p:cNvPicPr/>
          <p:nvPr/>
        </p:nvPicPr>
        <p:blipFill>
          <a:blip r:embed="rId1"/>
          <a:stretch/>
        </p:blipFill>
        <p:spPr>
          <a:xfrm>
            <a:off x="22860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The youngest of his three tireless daughters teaches read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Cj02352030000[1]"/>
          <p:cNvPicPr/>
          <p:nvPr/>
        </p:nvPicPr>
        <p:blipFill>
          <a:blip r:embed="rId1"/>
          <a:stretch/>
        </p:blipFill>
        <p:spPr>
          <a:xfrm>
            <a:off x="990720" y="426708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I went running for half an hour and breathed in and out in the stillnes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2352030000[1]"/>
          <p:cNvPicPr/>
          <p:nvPr/>
        </p:nvPicPr>
        <p:blipFill>
          <a:blip r:embed="rId1"/>
          <a:stretch/>
        </p:blipFill>
        <p:spPr>
          <a:xfrm>
            <a:off x="220968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I’ve seen many feathers, but this is the prettiest eagle feathe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Cj02352030000[1]"/>
          <p:cNvPicPr/>
          <p:nvPr/>
        </p:nvPicPr>
        <p:blipFill>
          <a:blip r:embed="rId1"/>
          <a:stretch/>
        </p:blipFill>
        <p:spPr>
          <a:xfrm>
            <a:off x="3200400" y="426708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Did you buy the gingerbread spread and peanuts for the fea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Cj02352030000[1]"/>
          <p:cNvPicPr/>
          <p:nvPr/>
        </p:nvPicPr>
        <p:blipFill>
          <a:blip r:embed="rId1"/>
          <a:stretch/>
        </p:blipFill>
        <p:spPr>
          <a:xfrm>
            <a:off x="4724280" y="434340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I like sitting alone in the meadow when the weather is cloudless and a bit warm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Cj02352030000[1]"/>
          <p:cNvPicPr/>
          <p:nvPr/>
        </p:nvPicPr>
        <p:blipFill>
          <a:blip r:embed="rId1"/>
          <a:stretch/>
        </p:blipFill>
        <p:spPr>
          <a:xfrm>
            <a:off x="5867280" y="458316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8:16:02Z</dcterms:created>
  <dc:creator>llefever</dc:creator>
  <dc:description/>
  <dc:language>en-US</dc:language>
  <cp:lastModifiedBy>teacher</cp:lastModifiedBy>
  <dcterms:modified xsi:type="dcterms:W3CDTF">2011-04-30T20:34:31Z</dcterms:modified>
  <cp:revision>3</cp:revision>
  <dc:subject/>
  <dc:title>Cowbo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9131174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